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18.gif" ContentType="image/gif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B863-6C98-47E6-A40E-F99544B50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006-1AF0-4368-BB1D-A0124FBF2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B6BB-385B-44EB-AB6E-4A569FEF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A42-D59F-4880-B09B-E56FFCC9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A96-3503-46B6-A17C-56868A80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A41-817B-45A9-AE5E-77FAF87E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368-55B4-4BE1-83C6-B2DE1AED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926-A73E-4AB2-B114-92F937B7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3D4-F2F6-4BF4-B29C-E68C9D78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CED-4EFA-4317-A8CB-211F8F88A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630-CA76-4577-9A54-4DAB0471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81B-796E-44FC-8827-85F995AF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6CF-B5EC-4725-8707-E43074E69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2E0A-5AF5-414D-930A-E30FB3E4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E44E-EE27-4F22-9FE4-78C8EE8E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D66-A96D-4AFA-960B-7A73B596C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108-0B91-4ECE-91E5-8643854E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2BD-6A10-4830-B1FB-BAC0E136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015D-A097-484B-9AA2-98033877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E2A-48B3-4838-86C2-252B7562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DAF4-7EE9-4AC8-9184-D683F09E6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5E2-3E9E-4D74-A958-16674956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2FD-825F-4431-BEDF-E1DD864E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40D-ED03-49D7-9AC4-D3A6A03E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432-D11E-49DB-B8B3-85F1B5DA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BF1B-C402-444D-968C-A68426E7A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C227-51E3-4FC7-BE22-E7319D45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2C61-39C9-4FD7-B572-E6A31D47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A6A-A9BE-4FB2-90FB-43A8CDE2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702-A5FA-493C-A5C5-C5CF37B0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675-A130-4D51-BD75-EB4195F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F6F-C611-41D2-8C5F-D25FF421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125-A02E-4041-9510-FD264FAB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3DB-F70D-419A-8D85-E49ED457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621-E489-426B-9142-350FB19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011-FC98-477F-A08B-54B8429C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84D-E87E-42F7-A73A-B3216FE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1D0-B1FA-4D58-AEC8-9EA5ECF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A76-6D2B-4C09-AEDD-10580D8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C75-CE14-43E5-8BA5-36D8DAE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70D-1DF2-418E-9818-AEBE54C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1DE-CAD3-42B8-838B-C16E811F0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Vocabula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çon 11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s Fê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0292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organiser une fête, il fa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149520" y="2819520"/>
            <a:ext cx="225504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â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le_gateau_3.jpg"/>
          <p:cNvPicPr/>
          <p:nvPr/>
        </p:nvPicPr>
        <p:blipFill>
          <a:blip r:embed="rId2"/>
          <a:stretch/>
        </p:blipFill>
        <p:spPr>
          <a:xfrm>
            <a:off x="533520" y="1676520"/>
            <a:ext cx="444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organiser une fête, il fa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905120" y="1371600"/>
            <a:ext cx="5292720" cy="2913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is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on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oi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on a son anniversaire, on reçoit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029200" y="2438280"/>
            <a:ext cx="327672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adea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adeaux-93784.jpg"/>
          <p:cNvPicPr/>
          <p:nvPr/>
        </p:nvPicPr>
        <p:blipFill>
          <a:blip r:embed="rId2"/>
          <a:stretch/>
        </p:blipFill>
        <p:spPr>
          <a:xfrm>
            <a:off x="380880" y="1676520"/>
            <a:ext cx="3505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5265000" y="2819520"/>
            <a:ext cx="4024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hôte = the gu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the 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A-Guest-In-All-Your-Houses.jpg"/>
          <p:cNvPicPr/>
          <p:nvPr/>
        </p:nvPicPr>
        <p:blipFill>
          <a:blip r:embed="rId2"/>
          <a:stretch/>
        </p:blipFill>
        <p:spPr>
          <a:xfrm>
            <a:off x="457200" y="457200"/>
            <a:ext cx="3747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900000" y="45720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organise des fêtes pour célébrer les moments importants de la vie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85800" y="3048120"/>
            <a:ext cx="80773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 a partner, come up with a list of important moment in the life of a 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6270120" y="2895480"/>
            <a:ext cx="15904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818320" y="2819520"/>
            <a:ext cx="29178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naiss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630840" y="2819520"/>
            <a:ext cx="23662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enf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5707800" y="2666880"/>
            <a:ext cx="20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itié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hildhood-Friends.jpg"/>
          <p:cNvPicPr/>
          <p:nvPr/>
        </p:nvPicPr>
        <p:blipFill>
          <a:blip r:embed="rId2"/>
          <a:stretch/>
        </p:blipFill>
        <p:spPr>
          <a:xfrm>
            <a:off x="304920" y="533520"/>
            <a:ext cx="389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amis ou a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a-hug-is-worth-a-thousand-words-a-friend-is-worth-world-world+1152_12993217864-tpfil02aw-16506.jpg"/>
          <p:cNvPicPr/>
          <p:nvPr/>
        </p:nvPicPr>
        <p:blipFill>
          <a:blip r:embed="rId2"/>
          <a:stretch/>
        </p:blipFill>
        <p:spPr>
          <a:xfrm>
            <a:off x="228600" y="7621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est-ce que l’on fait une f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ête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aire la fêt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ganiser un fêt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ê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jeun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jeunesse11.jpg"/>
          <p:cNvPicPr/>
          <p:nvPr/>
        </p:nvPicPr>
        <p:blipFill>
          <a:blip r:embed="rId2"/>
          <a:stretch/>
        </p:blipFill>
        <p:spPr>
          <a:xfrm>
            <a:off x="990720" y="1295280"/>
            <a:ext cx="4165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5701680" y="2666880"/>
            <a:ext cx="2084040" cy="703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5943600" y="2666880"/>
            <a:ext cx="2776680" cy="1312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ber amour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je-suis-tomber-amoureux-monastir-tunisia+1152_12975248429-tpfil02aw-32044.jpg"/>
          <p:cNvPicPr/>
          <p:nvPr/>
        </p:nvPicPr>
        <p:blipFill>
          <a:blip r:embed="rId2"/>
          <a:stretch/>
        </p:blipFill>
        <p:spPr>
          <a:xfrm>
            <a:off x="0" y="304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mari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William-Kate-wedding.jpg"/>
          <p:cNvPicPr/>
          <p:nvPr/>
        </p:nvPicPr>
        <p:blipFill>
          <a:blip r:embed="rId2"/>
          <a:stretch/>
        </p:blipFill>
        <p:spPr>
          <a:xfrm>
            <a:off x="380880" y="152280"/>
            <a:ext cx="59436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022080" y="2819520"/>
            <a:ext cx="25095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bonh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happy-face1.gif"/>
          <p:cNvPicPr/>
          <p:nvPr/>
        </p:nvPicPr>
        <p:blipFill>
          <a:blip r:embed="rId2"/>
          <a:stretch/>
        </p:blipFill>
        <p:spPr>
          <a:xfrm>
            <a:off x="0" y="457200"/>
            <a:ext cx="5867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6400800" y="2438280"/>
            <a:ext cx="245268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dre sa retrai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la retraite.jpg"/>
          <p:cNvPicPr/>
          <p:nvPr/>
        </p:nvPicPr>
        <p:blipFill>
          <a:blip r:embed="rId2"/>
          <a:stretch/>
        </p:blipFill>
        <p:spPr>
          <a:xfrm>
            <a:off x="457200" y="8380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-36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i, on fête son 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724280" y="4495680"/>
            <a:ext cx="414360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annivers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DownloadedFile.jpeg"/>
          <p:cNvPicPr/>
          <p:nvPr/>
        </p:nvPicPr>
        <p:blipFill>
          <a:blip r:embed="rId1"/>
          <a:stretch/>
        </p:blipFill>
        <p:spPr>
          <a:xfrm>
            <a:off x="609480" y="12193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19320" y="-36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elle fête est-c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10080" y="3124080"/>
            <a:ext cx="315288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ë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DownloadedFile-1.jpeg"/>
          <p:cNvPicPr/>
          <p:nvPr/>
        </p:nvPicPr>
        <p:blipFill>
          <a:blip r:embed="rId1"/>
          <a:stretch/>
        </p:blipFill>
        <p:spPr>
          <a:xfrm>
            <a:off x="228600" y="990720"/>
            <a:ext cx="4952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l y a aussi des fêtes nationales, comme le 4 juille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029200" y="2819520"/>
            <a:ext cx="3381480" cy="14346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4 juillet est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 jour fér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200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 autre jour férié aux US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.jpeg"/>
          <p:cNvPicPr/>
          <p:nvPr/>
        </p:nvPicPr>
        <p:blipFill>
          <a:blip r:embed="rId1"/>
          <a:stretch/>
        </p:blipFill>
        <p:spPr>
          <a:xfrm>
            <a:off x="3276720" y="1600200"/>
            <a:ext cx="2654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urquoi est-ce que le 14 juillet est un jour férié en France??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-1.jpeg"/>
          <p:cNvPicPr/>
          <p:nvPr/>
        </p:nvPicPr>
        <p:blipFill>
          <a:blip r:embed="rId1"/>
          <a:stretch/>
        </p:blipFill>
        <p:spPr>
          <a:xfrm>
            <a:off x="838080" y="18288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248520" y="3505320"/>
            <a:ext cx="267336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Times New Roman"/>
              </a:rPr>
              <a:t>Oui, c’est la fête nationale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ur fêter un anniversaire, on organise 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562720" y="3581280"/>
            <a:ext cx="330516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e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11116321.jpg"/>
          <p:cNvPicPr/>
          <p:nvPr/>
        </p:nvPicPr>
        <p:blipFill>
          <a:blip r:embed="rId1"/>
          <a:stretch/>
        </p:blipFill>
        <p:spPr>
          <a:xfrm>
            <a:off x="304920" y="1379520"/>
            <a:ext cx="49528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 a déjà organisé une fête surpris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0-10-09T16:46:10Z</cp:lastPrinted>
  <dcterms:modified xsi:type="dcterms:W3CDTF">2011-10-24T21:48:42Z</dcterms:modified>
  <cp:revision>78</cp:revision>
  <dc:subject/>
  <dc:title>La Touraine</dc:title>
</cp:coreProperties>
</file>